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FB6-35F3-4B54-B73A-160180E2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65E-5ACC-472E-B52F-5674F0D9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B70-F0C5-49AB-982C-7CB95ED5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092-45FA-4619-A25D-FE2E17EF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C74A-5CFB-476A-B6F6-37239DB4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4780-4C3E-4398-8C7D-7A4B3B90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D389-33F9-4D63-A458-222D4419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457E-7947-4EDA-A4B7-21E73E81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F698-7FF2-4F9C-A50D-400F5605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A9CF-7839-44D3-9673-27BB9B71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092E-5F22-40D4-9ADF-0DDFD2F5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E39-B168-4BB0-AD25-E7446996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EFA4-3B7F-485E-BDF0-071746BE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9C6B-FC26-425F-8154-6C095C1F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F229-D656-40A9-9B0D-1BC41D5E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AA87-25BF-4EB9-828E-0B8982AF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6875-5326-4143-94D6-D665CBF9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79DD8-6DEB-4088-AA0F-9E189B01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980A-8039-4728-86F2-143B0559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3BB7-25D4-41AF-8287-62154C30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C755-04E9-42A3-93ED-CC7CE6FA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E28E-1257-4F51-98F7-FD9EF63A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690-F9E5-4629-A692-613FC982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D21F-823E-4593-B5DE-921D0D25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4E8F-EB94-4FA2-898A-C0365DC3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AFD37-DA86-4B00-8879-3A8078C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222D9-2EBE-4B70-97E0-BF49BE53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0810-2B50-4805-947E-338E2710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089CE-074F-4ADD-9D7C-7B30C864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8B75-418F-4C7D-92AA-F80EA818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61B0F-D4AA-439C-9158-6D51C4A9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513A6-2524-49B4-B268-79DDE9AE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D340-A534-4F25-8C94-FC550AE1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898-3F18-4EB8-AED0-1B761C9D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78BA-3FC0-4E9F-B403-BC51D507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0A282-E9E9-461B-8622-167BD5CF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F0553-3BFC-4DE0-A950-22C59661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2A205-27EB-4139-A5DC-09889631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CB231-F2F6-4B63-A2C8-01024ED3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336A-04CB-47E8-922F-34D65258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10945-C70B-46DC-BEBB-04F06F15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104DE-4986-4843-BBEF-95DBCFC0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AF06C-F0D9-4579-84D0-40FBD642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C5F-1A63-496B-8FE9-91DCA002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8FD-A612-4014-B13B-2331D92C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1298-1761-4E00-9F2D-EB2133B1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CD6-55B1-4503-AF2E-1C6E785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7F9-B437-4FB2-8964-D4EF380C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9FB5-57E6-4377-AC12-1FC7F1C00EF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EF67-6B70-417E-9B6D-5BDD74CC51C0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C8A1-B7E0-4C8B-92BD-C1D6655D6483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4764-19D3-4B56-B61C-36EF285709CD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Organization Chart 5"/>
          <p:cNvGrpSpPr/>
          <p:nvPr/>
        </p:nvGrpSpPr>
        <p:grpSpPr>
          <a:xfrm>
            <a:off x="1800360" y="620640"/>
            <a:ext cx="5471280" cy="4131000"/>
            <a:chOff x="1800360" y="620640"/>
            <a:chExt cx="5471280" cy="4131000"/>
          </a:xfrm>
        </p:grpSpPr>
        <p:cxnSp>
          <p:nvCxnSpPr>
            <p:cNvPr id="196" name="_s1028"/>
            <p:cNvCxnSpPr>
              <a:stCxn id="197" idx="0"/>
              <a:endCxn id="198" idx="2"/>
            </p:cNvCxnSpPr>
            <p:nvPr/>
          </p:nvCxnSpPr>
          <p:spPr>
            <a:xfrm flipV="1" rot="16200000">
              <a:off x="5080320" y="1728360"/>
              <a:ext cx="826560" cy="191556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029"/>
            <p:cNvCxnSpPr>
              <a:stCxn id="200" idx="0"/>
              <a:endCxn id="198" idx="2"/>
            </p:cNvCxnSpPr>
            <p:nvPr/>
          </p:nvCxnSpPr>
          <p:spPr>
            <a:xfrm rot="16200000">
              <a:off x="4122720" y="2685960"/>
              <a:ext cx="8265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1030"/>
            <p:cNvCxnSpPr>
              <a:stCxn id="202" idx="0"/>
              <a:endCxn id="198" idx="2"/>
            </p:cNvCxnSpPr>
            <p:nvPr/>
          </p:nvCxnSpPr>
          <p:spPr>
            <a:xfrm flipH="1" flipV="1" rot="5400000">
              <a:off x="3164760" y="1728720"/>
              <a:ext cx="826560" cy="191520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8" name="_s1031"/>
            <p:cNvSpPr/>
            <p:nvPr/>
          </p:nvSpPr>
          <p:spPr>
            <a:xfrm>
              <a:off x="3715200" y="620640"/>
              <a:ext cx="1641240" cy="1652400"/>
            </a:xfrm>
            <a:custGeom>
              <a:avLst/>
              <a:gdLst>
                <a:gd name="textAreaLeft" fmla="*/ 79920 w 1641240"/>
                <a:gd name="textAreaRight" fmla="*/ 1561320 w 1641240"/>
                <a:gd name="textAreaTop" fmla="*/ 79920 h 1652400"/>
                <a:gd name="textAreaBottom" fmla="*/ 1572480 h 1652400"/>
              </a:gdLst>
              <a:ahLst/>
              <a:rect l="textAreaLeft" t="textAreaTop" r="textAreaRight" b="textAreaBottom"/>
              <a:pathLst>
                <a:path w="21600" h="21747">
                  <a:moveTo>
                    <a:pt x="3600" y="0"/>
                  </a:moveTo>
                  <a:arcTo wR="3600" hR="3600" stAng="16200000" swAng="-5400000"/>
                  <a:lnTo>
                    <a:pt x="0" y="18147"/>
                  </a:lnTo>
                  <a:arcTo wR="3600" hR="3600" stAng="10800000" swAng="-5400000"/>
                  <a:lnTo>
                    <a:pt x="18000" y="21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comic"/>
                </a:rPr>
                <a:t>elecciones</a:t>
              </a:r>
              <a:br>
                <a:rPr sz="2400"/>
              </a:br>
              <a:r>
                <a:rPr b="0" lang="en-US" sz="2400" spc="-1" strike="noStrike">
                  <a:solidFill>
                    <a:srgbClr val="990000"/>
                  </a:solidFill>
                  <a:latin typeface="comic"/>
                </a:rPr>
                <a:t>del </a:t>
              </a:r>
              <a:br>
                <a:rPr sz="2400"/>
              </a:br>
              <a:r>
                <a:rPr b="0" lang="en-US" sz="2400" spc="-1" strike="noStrike">
                  <a:solidFill>
                    <a:srgbClr val="990000"/>
                  </a:solidFill>
                  <a:latin typeface="comic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032"/>
            <p:cNvSpPr/>
            <p:nvPr/>
          </p:nvSpPr>
          <p:spPr>
            <a:xfrm>
              <a:off x="1800360" y="3099240"/>
              <a:ext cx="1641240" cy="1652400"/>
            </a:xfrm>
            <a:custGeom>
              <a:avLst/>
              <a:gdLst>
                <a:gd name="textAreaLeft" fmla="*/ 79920 w 1641240"/>
                <a:gd name="textAreaRight" fmla="*/ 1561320 w 1641240"/>
                <a:gd name="textAreaTop" fmla="*/ 79920 h 1652400"/>
                <a:gd name="textAreaBottom" fmla="*/ 1572480 h 1652400"/>
              </a:gdLst>
              <a:ahLst/>
              <a:rect l="textAreaLeft" t="textAreaTop" r="textAreaRight" b="textAreaBottom"/>
              <a:pathLst>
                <a:path w="21600" h="21747">
                  <a:moveTo>
                    <a:pt x="3600" y="0"/>
                  </a:moveTo>
                  <a:arcTo wR="3600" hR="3600" stAng="16200000" swAng="-5400000"/>
                  <a:lnTo>
                    <a:pt x="0" y="18147"/>
                  </a:lnTo>
                  <a:arcTo wR="3600" hR="3600" stAng="10800000" swAng="-5400000"/>
                  <a:lnTo>
                    <a:pt x="18000" y="21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33"/>
            <p:cNvSpPr/>
            <p:nvPr/>
          </p:nvSpPr>
          <p:spPr>
            <a:xfrm>
              <a:off x="3715200" y="3099240"/>
              <a:ext cx="1641240" cy="1652400"/>
            </a:xfrm>
            <a:custGeom>
              <a:avLst/>
              <a:gdLst>
                <a:gd name="textAreaLeft" fmla="*/ 79920 w 1641240"/>
                <a:gd name="textAreaRight" fmla="*/ 1561320 w 1641240"/>
                <a:gd name="textAreaTop" fmla="*/ 79920 h 1652400"/>
                <a:gd name="textAreaBottom" fmla="*/ 1572480 h 1652400"/>
              </a:gdLst>
              <a:ahLst/>
              <a:rect l="textAreaLeft" t="textAreaTop" r="textAreaRight" b="textAreaBottom"/>
              <a:pathLst>
                <a:path w="21600" h="21747">
                  <a:moveTo>
                    <a:pt x="3600" y="0"/>
                  </a:moveTo>
                  <a:arcTo wR="3600" hR="3600" stAng="16200000" swAng="-5400000"/>
                  <a:lnTo>
                    <a:pt x="0" y="18147"/>
                  </a:lnTo>
                  <a:arcTo wR="3600" hR="3600" stAng="10800000" swAng="-5400000"/>
                  <a:lnTo>
                    <a:pt x="18000" y="21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34"/>
            <p:cNvSpPr/>
            <p:nvPr/>
          </p:nvSpPr>
          <p:spPr>
            <a:xfrm>
              <a:off x="5630400" y="3099240"/>
              <a:ext cx="1641240" cy="1652400"/>
            </a:xfrm>
            <a:custGeom>
              <a:avLst/>
              <a:gdLst>
                <a:gd name="textAreaLeft" fmla="*/ 79920 w 1641240"/>
                <a:gd name="textAreaRight" fmla="*/ 1561320 w 1641240"/>
                <a:gd name="textAreaTop" fmla="*/ 79920 h 1652400"/>
                <a:gd name="textAreaBottom" fmla="*/ 1572480 h 1652400"/>
              </a:gdLst>
              <a:ahLst/>
              <a:rect l="textAreaLeft" t="textAreaTop" r="textAreaRight" b="textAreaBottom"/>
              <a:pathLst>
                <a:path w="21600" h="21747">
                  <a:moveTo>
                    <a:pt x="3600" y="0"/>
                  </a:moveTo>
                  <a:arcTo wR="3600" hR="3600" stAng="16200000" swAng="-5400000"/>
                  <a:lnTo>
                    <a:pt x="0" y="18147"/>
                  </a:lnTo>
                  <a:arcTo wR="3600" hR="3600" stAng="10800000" swAng="-5400000"/>
                  <a:lnTo>
                    <a:pt x="18000" y="21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Picture 14" descr="hipolito mejia"/>
          <p:cNvPicPr/>
          <p:nvPr/>
        </p:nvPicPr>
        <p:blipFill>
          <a:blip r:embed="rId1"/>
          <a:stretch/>
        </p:blipFill>
        <p:spPr>
          <a:xfrm>
            <a:off x="1908000" y="3141720"/>
            <a:ext cx="1387800" cy="1584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Danilo Medina"/>
          <p:cNvPicPr/>
          <p:nvPr/>
        </p:nvPicPr>
        <p:blipFill>
          <a:blip r:embed="rId2"/>
          <a:stretch/>
        </p:blipFill>
        <p:spPr>
          <a:xfrm>
            <a:off x="3786120" y="3143160"/>
            <a:ext cx="1500120" cy="1575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joaquin balaguer"/>
          <p:cNvPicPr/>
          <p:nvPr/>
        </p:nvPicPr>
        <p:blipFill>
          <a:blip r:embed="rId3"/>
          <a:stretch/>
        </p:blipFill>
        <p:spPr>
          <a:xfrm>
            <a:off x="5786280" y="3143160"/>
            <a:ext cx="1347840" cy="1513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8"/>
          <p:cNvSpPr/>
          <p:nvPr/>
        </p:nvSpPr>
        <p:spPr>
          <a:xfrm>
            <a:off x="1546920" y="4786200"/>
            <a:ext cx="22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76a3"/>
                </a:solidFill>
                <a:uFillTx/>
                <a:latin typeface="Cambria Math"/>
                <a:ea typeface="Cambria Math"/>
              </a:rPr>
              <a:t>P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1,432.548 voto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3587760" y="485784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993366"/>
                </a:solidFill>
                <a:uFillTx/>
                <a:latin typeface="Cambria Math"/>
                <a:ea typeface="Cambria Math"/>
              </a:rPr>
              <a:t>PLD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785,526 v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516640" y="485784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a50021"/>
                </a:solidFill>
                <a:uFillTx/>
                <a:latin typeface="Cambria Math"/>
                <a:ea typeface="Cambria Math"/>
              </a:rPr>
              <a:t>PRSC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753,349 v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1 Título" descr=""/>
          <p:cNvPicPr/>
          <p:nvPr/>
        </p:nvPicPr>
        <p:blipFill>
          <a:blip r:embed="rId1"/>
          <a:stretch/>
        </p:blipFill>
        <p:spPr>
          <a:xfrm>
            <a:off x="2200320" y="-6480"/>
            <a:ext cx="5121360" cy="1543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857160" y="1571400"/>
            <a:ext cx="734400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En conclusión vemos en este tema como Hipólito se enfocaba  mas en el termino de la SALUD y EDUCACION y olvidándose de que la economía estaba por el suelo donde habían personas que no tenían un techo donde vivir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Y como al morir los principales representantes de los partidos del PRD,PLD Y PRSC provoco una gran crisis entre ellos internament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01600" y="1852560"/>
            <a:ext cx="8918640" cy="173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71480" y="428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990000"/>
                </a:solidFill>
                <a:latin typeface="comic"/>
              </a:rPr>
              <a:t>Contenido</a:t>
            </a:r>
            <a:r>
              <a:rPr b="0" lang="es-ES" sz="50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5" descr="hipolito mejia"/>
          <p:cNvPicPr/>
          <p:nvPr/>
        </p:nvPicPr>
        <p:blipFill>
          <a:blip r:embed="rId1"/>
          <a:stretch/>
        </p:blipFill>
        <p:spPr>
          <a:xfrm>
            <a:off x="755640" y="476280"/>
            <a:ext cx="1800360" cy="1676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50920" y="2420640"/>
            <a:ext cx="3743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didas económicas</a:t>
            </a: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y soc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tes positivas y negativ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Nuevas secretar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ergía eléctri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05520" y="25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risis bancari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rotestas soc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La crisis de los partidos polít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Las elecciones del 200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990000"/>
                </a:solidFill>
                <a:latin typeface="comic"/>
              </a:rPr>
              <a:t>Medidas económicas y social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l establecimiento de un anticipo de 1.5% sobre las vent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 impuesto selectivo a las bebidas y a los cigarrill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l aumento del </a:t>
            </a:r>
            <a:r>
              <a:rPr b="0" lang="es-ES" sz="2800" spc="-1" strike="noStrike">
                <a:solidFill>
                  <a:srgbClr val="990000"/>
                </a:solidFill>
                <a:latin typeface="Constantia"/>
              </a:rPr>
              <a:t>ITBIS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 un 8 a un 12% y un 6% a la publicida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Flotación de los combustibles en función del tipo de cambio y los precios internacionales del petróleo consignado en la ley de hidrocarburo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umento periódico de la tarifa eléctrica consignado en la ley general de electricida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990000"/>
                </a:solidFill>
                <a:latin typeface="comic"/>
              </a:rPr>
              <a:t>Partes positivas y negativas</a:t>
            </a:r>
            <a:r>
              <a:rPr b="0" lang="es-ES" sz="45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79280" y="1785960"/>
            <a:ext cx="86868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00"/>
                </a:solidFill>
                <a:latin typeface="Constantia"/>
              </a:rPr>
              <a:t>Parte negativa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s efectos de estas medidas fueron muy fuertes, pues  muchas empresas quebraron y la calidad de vida de la población se deterioro a niveles alarmant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00"/>
                </a:solidFill>
                <a:latin typeface="Constantia"/>
              </a:rPr>
              <a:t>Parte positiva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ara compensar esa situación el gobierno aplicó  un paquete social que contenía los siguientes elementos; en  el sector educativo amplio las raciones del desayuno escolar, mientras  que en el sector de salud se vacunaron a millones de personas, generación  de empleos, entre  otras cosas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990000"/>
                </a:solidFill>
                <a:latin typeface="comic"/>
              </a:rPr>
              <a:t>Nuevas secretarías</a:t>
            </a:r>
            <a:r>
              <a:rPr b="0" lang="es-ES" sz="50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ueron creadas las secretarías de medio ambiente y recursos naturales, responsables de coordinar las políticas de protección al medio ambiente y los recursos naturales.Igualmente, la secretaria de cultura para conducir la política cultural del país y la secretaría de la juventud para conducir programas y políticas dirigidos hacia la juventud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990000"/>
                </a:solidFill>
                <a:latin typeface="comic"/>
              </a:rPr>
              <a:t>Energía eléctrica</a:t>
            </a:r>
            <a:r>
              <a:rPr b="0" lang="es-ES" sz="50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0040" y="2104560"/>
            <a:ext cx="8352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déficit de energía se mantuvo, por  lo que la ciudadanía continuo sufriendo los apagones electricos.No obstante, el  gobierno periódicamente afirmaba que pagaba grandes sumas de dinero a las empresas generadoras de energí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990000"/>
                </a:solidFill>
                <a:latin typeface="comic"/>
              </a:rPr>
              <a:t>Crisis bancaria</a:t>
            </a:r>
            <a:r>
              <a:rPr b="0" lang="es-ES" sz="50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n el 2003 la República Dominicana fue afectada por la crisis de tres bancos: el banco intercontinental (BANINTER) que cometió un fraude de decenas de miles de millones de pesos. La suma pagada por la autoridades para salvar los ahorros de los ciudadanos sumo RD$55,000 millones, igual a las dos terceras del presupuesto nacional de ese moment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No bien se recuperaba la población del asombro y la angustia que despertó el caso BANINTER, cuando se supo de otro gran fraude, en el banco banco nacional  de crédito(BANCREDITO), que ha tenido costo superior a los RD$23,000 mill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comic"/>
              </a:rPr>
              <a:t>La crisis de los partidos políticos</a:t>
            </a:r>
            <a:r>
              <a:rPr b="0" lang="es-ES" sz="36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la muerte de José francisco peña Gómez, Joaquín Balaguer y Juan Bosch, los tres partidos tradicionales perdieron a sus lideres históricos, los cuales servían de agentes mediadores frente a los conflictos que de manera reiterada se presentaban en sus respectiva instituciones partidari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48:57Z</dcterms:created>
  <dc:creator>yuliber estefany</dc:creator>
  <dc:description/>
  <dc:language>en-US</dc:language>
  <cp:lastModifiedBy>Estudiantes</cp:lastModifiedBy>
  <dcterms:modified xsi:type="dcterms:W3CDTF">2010-12-08T15:36:27Z</dcterms:modified>
  <cp:revision>6</cp:revision>
  <dc:subject/>
  <dc:title>Hipólito mejìa presidente (2000)</dc:title>
</cp:coreProperties>
</file>